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C62-05CB-4273-B3EA-9D92D397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9A4-6129-4E81-AC90-B158DD1D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538-69B0-431B-8C60-8B762F46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562-E96D-4B37-854B-04B81584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CCC-BEE3-4BC7-BCED-794433DA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FDC-E4CC-4687-A502-4E5B571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C29-DE49-43D9-98B7-01DC2C5B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C4D-69A8-4F90-BF5D-42A583DE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0AC-FEC4-4A4C-8B0C-4BFD1B35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383-F286-457B-A8C7-3D2A675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96B-EC56-4EF2-88EE-00C8715C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0B8-589E-4BF6-AB10-443B1EC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229-2B63-420C-86BD-F395E51DA52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Management Of Tropical Rainfore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naging Global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odlands and forests throughout the world are under threat from being cut down for a variety of reas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fore management is becoming increasingly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ain method of management is called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ustainabil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means that the forests are used, but in a way which does not affect their long-term growth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rkers carefully harvest the trees and their resourc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rees that have been used are then replac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anaging Global 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essential that the governments of the countries where there are still large areas of forest be persuaded not to allow them to be cut dow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 it is not that easy, as the forests often represent a lucrative short-term economic resource for th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ffects Of Clearance On Nutrien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oils of the tropical rainforest seem to be very fertile, as they support a wide range of plants and anim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 that is not actually the c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egetation itself produces most of the nutrients that are then re-us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rapid leaf fall and this is quickly decomposed in the hot and humid conditions, creating a deep and nutrient rich humus lay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removing the trees, humans have also removed the main source of nutrients in the so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 when areas have been cleared for agriculture, the soils have quickly become infertile and usel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Clearance On Global Clim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absorb carbon dioxide and convert it back into oxygen, ready for animals to breathe. 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y are effectively the lungs of the world and are therefore very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y chopping down vast areas of both the rainforests and deciduous woodlands, less carbon dioxide can be processed, meaning that there is more in the atmosphe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urn, this increase in carbon dioxide in the atmosphere is one of the suspected causes of global warm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Clearance On Plants/Anim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opical rainforests are home to countless species of animals and plants, some of which may not have been discovered y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hopping down the trees, the habitats of these plants and animals are being destroyed and they will d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forests provide a huge range of foods and medicines that are essential for humans, and these are also being lost due to the defor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1:14:41Z</dcterms:created>
  <dc:creator>Dell_02</dc:creator>
  <dc:description/>
  <dc:language>en-US</dc:language>
  <cp:lastModifiedBy>Dell_02</cp:lastModifiedBy>
  <dcterms:modified xsi:type="dcterms:W3CDTF">2011-01-28T01:24:15Z</dcterms:modified>
  <cp:revision>1</cp:revision>
  <dc:subject/>
  <dc:title>Management Of Tropical Rainforest</dc:title>
</cp:coreProperties>
</file>